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4ABA5-9907-41DB-9365-7637613A1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923D-1884-4A20-88DB-BF239D986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1F4A2-065D-4E92-9A5F-DDF5D0D33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B3414-95AE-4316-A310-DFD60389E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6C6BB-17A6-4383-9B4F-82536EA0C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6A046-9FDC-42E8-827E-DD2193574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B9C91-116E-4B6B-AE72-F619E1518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28D5B-CF7D-4F09-A0FF-6AA4CAE7B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D3BBE-3F58-4D9E-B73D-C2EBA88EE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062DB-63E4-4312-8EDE-C8E5CA2AE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7044A-0449-4FFA-93B9-8C024ADC2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7DD2-6E78-4B56-9960-3B8DE765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6FDD7-AAE0-42EC-A519-A2A1F413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7D1E4-8010-40CB-A38E-429332822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932F1-E22B-4663-B69A-2BEF16733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EE913-CF5F-468A-B94E-B132FCFDE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E9830-B623-4E6F-95BB-BEDC4E1FF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C189C-A8CB-48EF-BF41-FC3F4E0271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68C10-116C-4029-8811-0FF7C2ABC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ECFF5-5125-4483-93DB-57A207BB5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9084E-8A53-486A-B7CA-D96B8332B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84DF2-FBC1-4D00-AE9F-105EE8DF0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056CA-6E59-459E-94CC-083FD144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B373E-60B4-47DE-850E-794A7891C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1B47C-6D69-41F7-AF58-41061BC58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BFFE1-6165-48A0-BAD8-E8018AEB7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343FA-CD42-49DE-B768-C131F5E82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E09EA-673F-4AB9-BB10-9758EF8A6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1D9F24-0F69-41E0-ACEA-6AB140867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C36F9E-57EB-4D58-938F-E53FCD789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C24B-09F1-43BF-B126-8D46F2D5B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EF826-D24A-4434-8EDC-E8E6E5739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F444-9B2B-422B-ABE9-E72DC4314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7C45-5335-4ABD-BAC2-3DD8E897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E204-409F-4A3D-AF6F-851F2BF6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8626-F798-42EF-A186-CEF9F2806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FEEE-E8C5-461E-8A2A-821B4CC86D7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7F86-EF7A-4D18-84B2-7F9DC6C65A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2971800" y="4222800"/>
            <a:ext cx="2819520" cy="263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7CA1-CDBF-43B3-8AA1-374CD42C970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9627-60B6-4B50-AEBB-E12186F7F8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
          <p:cNvPicPr/>
          <p:nvPr/>
        </p:nvPicPr>
        <p:blipFill>
          <a:blip r:embed="rId2"/>
          <a:stretch/>
        </p:blipFill>
        <p:spPr>
          <a:xfrm>
            <a:off x="8305920" y="152280"/>
            <a:ext cx="685800" cy="6415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1A57-5E5E-4033-8521-F25DEDAE990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6BBA-6003-4199-A444-F3A6EAFF73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ubunit.zzzuniversity.edu/"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5331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A Data Sharing Policy for Grants and Cooperative Agreements </a:t>
            </a:r>
            <a:endParaRPr b="0" lang="en-US" sz="4000" spc="-1" strike="noStrike">
              <a:solidFill>
                <a:srgbClr val="000000"/>
              </a:solidFill>
              <a:latin typeface="Calibri"/>
            </a:endParaRPr>
          </a:p>
        </p:txBody>
      </p:sp>
      <p:sp>
        <p:nvSpPr>
          <p:cNvPr id="126" name="PlaceHolder 2"/>
          <p:cNvSpPr>
            <a:spLocks noGrp="1"/>
          </p:cNvSpPr>
          <p:nvPr>
            <p:ph type="subTitle"/>
          </p:nvPr>
        </p:nvSpPr>
        <p:spPr>
          <a:xfrm>
            <a:off x="914400" y="2362320"/>
            <a:ext cx="73152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grid Gu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AA Environmental Data Management Committ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nk you for your support of the new NOAA data sharing policy.</a:t>
            </a:r>
            <a:endParaRPr b="0" lang="en-US" sz="4000" spc="-1" strike="noStrike">
              <a:solidFill>
                <a:srgbClr val="000000"/>
              </a:solidFill>
              <a:latin typeface="Calibri"/>
            </a:endParaRPr>
          </a:p>
        </p:txBody>
      </p:sp>
      <p:sp>
        <p:nvSpPr>
          <p:cNvPr id="15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94F2-B676-436F-8FF7-6EA5D07014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information about the new data sharing policy to grantees, NOAA Federal Program Officers, NOAA Competition Managers and other interested parties</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E421-419D-44F4-A912-37AF296BA5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FFO term</a:t>
            </a:r>
            <a:br>
              <a:rPr sz="4000"/>
            </a:br>
            <a:r>
              <a:rPr b="0" i="1" lang="en-US" sz="1400" spc="-1" strike="noStrike">
                <a:solidFill>
                  <a:srgbClr val="000000"/>
                </a:solidFill>
                <a:latin typeface="Calibri"/>
              </a:rPr>
              <a:t>Provides Data Sharing Requirements and describes Data Information/Sharing Plan contents</a:t>
            </a:r>
            <a:br>
              <a:rPr sz="1400"/>
            </a:br>
            <a:r>
              <a:rPr b="0" i="1" lang="en-US" sz="1400" spc="-1" strike="noStrike">
                <a:solidFill>
                  <a:srgbClr val="000000"/>
                </a:solidFill>
                <a:latin typeface="Calibri"/>
              </a:rPr>
              <a:t>Note:  FFO Page limits for project narratives should be increased by 2 to accommodate the plan</a:t>
            </a:r>
            <a:endParaRPr b="0" lang="en-US" sz="1400" spc="-1" strike="noStrike">
              <a:solidFill>
                <a:srgbClr val="000000"/>
              </a:solidFill>
              <a:latin typeface="Calibri"/>
            </a:endParaRPr>
          </a:p>
        </p:txBody>
      </p:sp>
      <p:sp>
        <p:nvSpPr>
          <p:cNvPr id="131" name=""/>
          <p:cNvSpPr txBox="1"/>
          <p:nvPr/>
        </p:nvSpPr>
        <p:spPr>
          <a:xfrm>
            <a:off x="228600" y="1218960"/>
            <a:ext cx="8686800" cy="5105160"/>
          </a:xfrm>
          <a:prstGeom prst="rect">
            <a:avLst/>
          </a:prstGeom>
          <a:noFill/>
          <a:ln w="0">
            <a:noFill/>
          </a:ln>
        </p:spPr>
        <p:txBody>
          <a:bodyPr anchor="t">
            <a:normAutofit/>
          </a:bodyPr>
          <a:p>
            <a:pPr lvl="1"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w Language for NOAA Competition Announcement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collected and/or created under NOAA grants/cooperative agreements must be made visible, accessible, and independently understandable to general users, free of charge or at minimal cost, in a timely manner (typically no later than two (2) years after the data are collected or created), except where limited by law, regulation, policy or by security requirement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Unless otherwise noted in this federal funding announcement, a Data/Information Sharing Plan of no more than two pages shall be required as part of the Project Narrative.  A typical plan may include the types of environmental data and information to be created during the course of the project; the tentative date by which data will be shared; the standards to be used for data/metadata format and content; policies addressing data stewardship and preservation; procedures for providing access, data, and security; and prior experience in publishing such data.  The Data/Information Sharing Plan will be reviewed as part of the NOAA Standard Evaluation Criteria, Item 1 -- </a:t>
            </a:r>
            <a:r>
              <a:rPr b="0" i="1" lang="en-US" sz="1400" spc="-1" strike="noStrike">
                <a:solidFill>
                  <a:srgbClr val="000000"/>
                </a:solidFill>
                <a:latin typeface="Calibri"/>
              </a:rPr>
              <a:t>Importance and/or Relevance and Applicability of Proposed Project to the Mission Goal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The Data/Information Sharing Plan (and any subsequent revisions or updates) will be made publicly available at time of award and, thereafter, will be posted with the published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Failing to share environmental data and information in accordance with the submitted Data/Information Sharing Plan may lead to disallowed costs and be considered by NOAA when making future award decisions.  </a:t>
            </a:r>
            <a:endParaRPr b="0" lang="en-US" sz="14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F5C6-DE67-4E6E-AE9F-28DE901E28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Programmatic SAC</a:t>
            </a:r>
            <a:br>
              <a:rPr sz="4000"/>
            </a:br>
            <a:r>
              <a:rPr b="0" i="1" lang="en-US" sz="4000" spc="-1" strike="noStrike">
                <a:solidFill>
                  <a:srgbClr val="000000"/>
                </a:solidFill>
                <a:latin typeface="Calibri"/>
              </a:rPr>
              <a:t> </a:t>
            </a:r>
            <a:r>
              <a:rPr b="0" i="1" lang="en-US" sz="1400" spc="-1" strike="noStrike">
                <a:solidFill>
                  <a:srgbClr val="000000"/>
                </a:solidFill>
                <a:latin typeface="Calibri"/>
              </a:rPr>
              <a:t>Provides Data Sharing Requirements</a:t>
            </a:r>
            <a:endParaRPr b="0" lang="en-US" sz="1400" spc="-1" strike="noStrike">
              <a:solidFill>
                <a:srgbClr val="000000"/>
              </a:solidFill>
              <a:latin typeface="Calibri"/>
            </a:endParaRPr>
          </a:p>
        </p:txBody>
      </p:sp>
      <p:sp>
        <p:nvSpPr>
          <p:cNvPr id="134" name=""/>
          <p:cNvSpPr txBox="1"/>
          <p:nvPr/>
        </p:nvSpPr>
        <p:spPr>
          <a:xfrm>
            <a:off x="228600" y="1143000"/>
            <a:ext cx="8686800" cy="5105520"/>
          </a:xfrm>
          <a:prstGeom prst="rect">
            <a:avLst/>
          </a:prstGeom>
          <a:noFill/>
          <a:ln w="0">
            <a:noFill/>
          </a:ln>
        </p:spPr>
        <p:txBody>
          <a:bodyPr anchor="t">
            <a:normAutofit/>
          </a:bodyPr>
          <a:p>
            <a:pPr lvl="1"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ew NOAA Programmatic Special Award Condition:</a:t>
            </a:r>
            <a:endParaRPr b="0" lang="en-US" sz="11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collected and/or created under this grant/cooperative agreement will be made visible, accessible and independently understandable to users, free of charge or at minimal cost, in a timely manner (typically no later than two (2) years after the data are collected or created), except where limited by law, regulation, policy or by security requir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ata/Information Sharing Plan (and any subsequent revisions or updates) will be made publicly available at time of award and, thereafter, will be posted with the published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produced under this award and which are made public must be accompanied by the following statement:  </a:t>
            </a:r>
            <a:r>
              <a:rPr b="0" i="1" lang="en-US" sz="1400" spc="-1" strike="noStrike">
                <a:solidFill>
                  <a:srgbClr val="000000"/>
                </a:solidFill>
                <a:latin typeface="Calibri"/>
              </a:rPr>
              <a:t>These environmental data and related items of information have not been formally disseminated by NOAA and do not represent and should not be construed to represent any agency determination, view, or polic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AA may at its own discretion, use information from the Data/Information Sharing Plan to produce a formal metadata record and include that metadata in a catalogue to indicate the pending availability of new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iling to share environmental data and information in accordance with the submitted Data/Information Sharing Plan may lead to disallowed costs and be considered by NOAA when making future award decisions.  </a:t>
            </a:r>
            <a:endParaRPr b="0" lang="en-US" sz="1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7C4E-5EDA-49B2-A742-EEDE14D761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ery Simple Data/Information Sharing Plan</a:t>
            </a:r>
            <a:br>
              <a:rPr sz="4000"/>
            </a:br>
            <a:r>
              <a:rPr b="0" lang="en-US" sz="1400" spc="-1" strike="noStrike">
                <a:solidFill>
                  <a:srgbClr val="000000"/>
                </a:solidFill>
                <a:latin typeface="Calibri"/>
              </a:rPr>
              <a:t>Note:  This is not an actual plan.</a:t>
            </a:r>
            <a:endParaRPr b="0" lang="en-US" sz="1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lvl="1"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will generate environmental information.  Publicly available GOES satellite data will be processed to generate maps of aerosols.  Data products. along with information about the correct citation to use and the data/product limitations will be shared by December 31, 2014 along with documentation to read/use/understand the data and a point of contact for questions.  This dataset will provide total column aerosol (aerosol optical depth units) for the Continental US at a 5KM resolution each day between Nov 30 2013 and Nov 29 2014.  We will use NetCDF Climate and Forecast data/metadata conventions.  We will publish the methodology for creating the products in the open literature. We will leave the data on the university website for at least three years.  During that time period we will ask NOAA archives if they have interest/resources for archiving the data and work with them as needed.  We have not had experience sharing data in the past, but we will work to set up a website similar to the format in </a:t>
            </a:r>
            <a:r>
              <a:rPr b="0" lang="en-US" sz="1800" spc="-1" strike="noStrike" u="sng">
                <a:solidFill>
                  <a:srgbClr val="0000ff"/>
                </a:solidFill>
                <a:uFillTx/>
                <a:latin typeface="Calibri"/>
                <a:hlinkClick r:id="rId1"/>
              </a:rPr>
              <a:t>http://subunit.zzzuniversity.edu</a:t>
            </a:r>
            <a:r>
              <a:rPr b="0" lang="en-US" sz="1800" spc="-1" strike="noStrike">
                <a:solidFill>
                  <a:srgbClr val="000000"/>
                </a:solidFill>
                <a:latin typeface="Calibri"/>
              </a:rPr>
              <a:t>.  Our website will be password protected and available only to co-Pis until  we determine it is beneficial to share the data more widely or our primary findings are accepted for publication or December 31, 2014, whichever comes first.  If resources allow we will also include current daily aerosol maps  as gif images on the website for real-time users.</a:t>
            </a:r>
            <a:endParaRPr b="0" lang="en-US" sz="1800" spc="-1" strike="noStrike">
              <a:solidFill>
                <a:srgbClr val="000000"/>
              </a:solidFill>
              <a:latin typeface="Calibri"/>
            </a:endParaRPr>
          </a:p>
          <a:p>
            <a:pPr lvl="1"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CBB3-F9D6-4E1A-ACFB-D4FC40C0CF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aring-related items to minimize/prevent</a:t>
            </a:r>
            <a:endParaRPr b="0" lang="en-US" sz="3600" spc="-1" strike="noStrike">
              <a:solidFill>
                <a:srgbClr val="000000"/>
              </a:solidFill>
              <a:latin typeface="Calibri"/>
            </a:endParaRPr>
          </a:p>
        </p:txBody>
      </p:sp>
      <p:sp>
        <p:nvSpPr>
          <p:cNvPr id="140" name=""/>
          <p:cNvSpPr txBox="1"/>
          <p:nvPr/>
        </p:nvSpPr>
        <p:spPr>
          <a:xfrm>
            <a:off x="457200" y="1219320"/>
            <a:ext cx="822960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ees and research institutions being scoop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ectual property misunderstanding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onfused or wasting time with data not fully quality controlled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believing data to be more accurate than it is and making conclusions or decisions</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BD33-A65E-4C5C-B6A7-74EAE9F11A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Quality Ac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data and information produced under this award and which are made public must be accompanied by the following statement:  </a:t>
            </a:r>
            <a:r>
              <a:rPr b="0" i="1" lang="en-US" sz="2000" spc="-1" strike="noStrike">
                <a:solidFill>
                  <a:srgbClr val="000000"/>
                </a:solidFill>
                <a:latin typeface="Calibri"/>
              </a:rPr>
              <a:t>These environmental data and related items of information have not been formally disseminated by NOAA and do not represent and should not be construed to represent any agency determination, view, or polic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remove this disclaimer NOAA must verify that the data meet NOAA Information Quality Act guidelines and approve dissemination to the public.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DB69-F6D1-4DA7-B536-90839809D2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f data is to be shared </a:t>
            </a:r>
            <a:r>
              <a:rPr b="0" lang="en-US" sz="4000" spc="-1" strike="noStrike" u="sng">
                <a:solidFill>
                  <a:srgbClr val="000000"/>
                </a:solidFill>
                <a:uFillTx/>
                <a:latin typeface="Calibri"/>
              </a:rPr>
              <a:t>after</a:t>
            </a:r>
            <a:r>
              <a:rPr b="0" lang="en-US" sz="4000" spc="-1" strike="noStrike">
                <a:solidFill>
                  <a:srgbClr val="000000"/>
                </a:solidFill>
                <a:latin typeface="Calibri"/>
              </a:rPr>
              <a:t> award closes?</a:t>
            </a:r>
            <a:endParaRPr b="0" lang="en-US" sz="4000" spc="-1" strike="noStrike">
              <a:solidFill>
                <a:srgbClr val="000000"/>
              </a:solidFill>
              <a:latin typeface="Calibri"/>
            </a:endParaRPr>
          </a:p>
        </p:txBody>
      </p:sp>
      <p:sp>
        <p:nvSpPr>
          <p:cNvPr id="146" name=""/>
          <p:cNvSpPr txBox="1"/>
          <p:nvPr/>
        </p:nvSpPr>
        <p:spPr>
          <a:xfrm>
            <a:off x="304920" y="1295280"/>
            <a:ext cx="8534160" cy="51818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OAA FPO will verify the data sharing plan is available and being followed prior to closing the award file and take enforcement actions if necessary (NOAA could seek a post-award disallowance of costs if data is not shared per the data sharing plan)</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s who will seek future NOAA funds will be motivated to follow their data sharing plan even after the award has closed because they will need to indicate how and when they have made their data accessible and usable by the community in the past.  This will be reviewed as part of the NOAA Standard Evaluation Criterion “Importance and/or relevance and applicability of proposed project to the mission goal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F846-259C-4403-ADB3-7252908314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f I don’t have a logical place to make my data and/or data sharing plan widely available?</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 something reasonabl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is a new application for funding then your data sharing plan will be evaluated by experts in your field and they should understand the logistics that make sharing difficult.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is not a new application, consult with your NOAA FPO on ways to comply.</a:t>
            </a:r>
            <a:endParaRPr b="0" lang="en-US" sz="20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2D24-50CB-4D4E-B3D9-A0D23553FC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42:33Z</dcterms:created>
  <dc:creator>iguch</dc:creator>
  <dc:description/>
  <dc:language>en-US</dc:language>
  <cp:lastModifiedBy>Jeff deLaBeaujardiere</cp:lastModifiedBy>
  <dcterms:modified xsi:type="dcterms:W3CDTF">2012-06-06T14:31:03Z</dcterms:modified>
  <cp:revision>342</cp:revision>
  <dc:subject/>
  <dc:title>Data Sharing Policy for NOAA Grants</dc:title>
</cp:coreProperties>
</file>